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2F7-AC6B-46D0-A235-D20F659B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91C-A9C9-404E-8AF4-35CCDFFC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AF2-959B-4FF0-BA97-BB862316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E79-A6E9-41BB-A1E0-BFF24C51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742F-62D8-407B-9824-348F91AA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D181-CBBC-4986-903D-5251DD92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4424-78A5-45AE-848F-0403A460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8185-C845-4AA5-B85E-462FBA16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ED1-5631-4FDE-8E52-FB1C4044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64DD-ADCA-4053-947B-A75A3236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1141-12BF-4D7E-A151-5F6EDE2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D8F-8851-4569-BDFB-4414A095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43CF-3094-48B1-B175-AD912E7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4E24-A3DE-4533-AA23-E45A744F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01B4-92C5-488A-B665-FDF8C3E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8567-9B3A-4005-89C6-319AEADE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F5B7-8118-4AE0-89D0-5B3CE19E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A17-FA1F-46AD-BA20-58C41767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EF5-0942-43E4-A296-45A6E9C6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117-474C-4F1F-AC86-975E6A74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7C1-213A-4F43-AA2F-A51AA38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77A-AABB-4E6A-B404-1A436DD6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385-A8DC-4D87-9E1E-CEDF613C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9F3-989C-478E-9DB4-EEBD60DF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80D2-9734-4F86-B1A0-58B690141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2822-12B6-43A2-8A83-B88EF2BDA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Органы чувств и </a:t>
            </a: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нервная систем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3789000"/>
            <a:ext cx="6782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к уроку окружающего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3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зрения-гл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слуха- уш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1905120"/>
            <a:ext cx="5581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боняния-н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854360"/>
            <a:ext cx="5688000" cy="42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рган вкуса- язы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рган осязания-кож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1582560"/>
            <a:ext cx="511668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0" y="549000"/>
            <a:ext cx="448632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рвная систем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nervous_system4"/>
          <p:cNvPicPr/>
          <p:nvPr/>
        </p:nvPicPr>
        <p:blipFill>
          <a:blip r:embed="rId1"/>
          <a:stretch/>
        </p:blipFill>
        <p:spPr>
          <a:xfrm>
            <a:off x="250920" y="476280"/>
            <a:ext cx="360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5" descr="Scan0001"/>
          <p:cNvPicPr/>
          <p:nvPr/>
        </p:nvPicPr>
        <p:blipFill>
          <a:blip r:embed="rId1"/>
          <a:stretch/>
        </p:blipFill>
        <p:spPr>
          <a:xfrm>
            <a:off x="1116000" y="549360"/>
            <a:ext cx="720108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6:14:14Z</dcterms:created>
  <dc:creator>Admin</dc:creator>
  <dc:description/>
  <dc:language>en-US</dc:language>
  <cp:lastModifiedBy>Admin</cp:lastModifiedBy>
  <dcterms:modified xsi:type="dcterms:W3CDTF">2011-03-09T11:49:25Z</dcterms:modified>
  <cp:revision>4</cp:revision>
  <dc:subject/>
  <dc:title>Органы чувств</dc:title>
</cp:coreProperties>
</file>